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3BA-BECE-4A86-A16A-1821BB24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F8C-0580-4112-99EE-A9A2F152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1F9DF-70DF-4678-BEA3-06F2B088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02F75-F03D-4354-8057-74F34730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D457C-FE5D-4A2A-A85E-106A0EA3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CAFF-73F9-4A73-9933-C281717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199F8-7217-409A-B41D-7921975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8669F-AA17-41E0-9AE1-1C985A0A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FA626-B15E-4AE9-98C5-15DA1CFE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960A5-F079-4D65-B08B-081E3FCA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547B6-E098-455F-A180-A363776B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641ED-78AC-48EB-9988-6F51ADB7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894-5A76-47BB-BD01-01390BCD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6D0A5-BBD8-48B3-8C8A-D867458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E0346-3C6A-46B1-9C67-BC05A446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9C308-971B-470D-85F9-59601BA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DA347-848C-442D-B349-1314B1AA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5F123-B16F-480C-A437-BEB330C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6AB79-5E2E-4032-B7A6-68818CF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878DB-6212-4647-8FA9-818CD99B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09C1E-6E5A-4C4A-A470-8A96D50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E7C8D-4866-4C60-9CB7-1E026E9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3044C-DE7C-4DCB-AC54-9975B6C9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572-0CF0-43A7-B678-E0A202DF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5C638-FBEB-44F6-AE93-66E0D9A1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5306-6693-4CC6-8B12-15900ACB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B9352-EC4E-4A74-9AC0-9045640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5D3EA-0DF4-4883-B9AF-61B7B527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F8B2B-97F6-4330-83D2-A702442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23D1-ADF4-4956-9B75-3A81BDA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BC360-5F52-4A22-8591-8266A07F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0D7E-A07D-48D4-9161-3CC152D6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EFFB7-ABBB-45C3-91DB-81BA859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46EF3-66FB-4801-AD3D-AA751BA2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A1A-CBFE-4C5E-9316-DD226139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12FCB-355D-4B60-B8FF-88C6234A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FFD4A-0F85-40B7-B613-15B3F9DC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547E6-6E8D-4816-ACC4-5642FB5E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6E0D9-4DE5-4041-9EFB-D0C3C3A2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B5F3A-8147-4E3D-8B02-CB2B5DE7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78B63-F410-4471-814E-322F313B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7F5A7-81EF-4240-A26F-CCDDAAF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318FC-C571-4454-805D-2F9A4BD7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9D53C-4804-4571-8523-FEF116A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6CEC5-3FE6-4463-A970-54A5BFF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636-1BC5-42E3-8C33-74CF5ACF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4E402-05B4-48F1-8299-915D563A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536CE-8A6D-4551-BB29-B4BFE08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73517-3B8E-485E-B944-51D5DEF4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2115A-BE7E-4E0D-83A7-90C7FFC0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0A95E-2D5B-436F-876E-27956B46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D651-EFD4-4D60-8B92-72C16BA4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C54-2EA9-4CA9-9CD8-C086C55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B75-1FE5-4430-B1EA-633F9FF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E814-C62C-4E0C-AE0F-8CF03A6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E543-E156-4AD4-BC1F-D852DAF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2A2-D56C-4AD6-BD3C-C1082D0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78D1-EE32-4955-965C-BC5DBE2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8496-D38F-406E-AE4A-F714E94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4C76-8C06-4659-8C40-F0E529FE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C71C-EAC7-4245-B082-0EB818D2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9E8B-B766-4ED7-B755-3A40F53E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8EFB-B169-48E1-82EC-AB3D03EF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0DC7-E553-4A1F-A777-A138B49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BA1C-B8EA-479E-A357-1922A223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9D37-DE6E-4A36-BB99-B830394F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C172-CD94-4FDA-B3A0-BB1A4C50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4BA-03FB-4698-9759-0CD8276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4AB3-4F87-460A-86B7-53DA909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4D36-2DF1-45DF-B18D-907C4595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B285-6D6A-4830-92AF-A648782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27DE-BCC0-4FEB-A059-B0865F7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898E-E194-4141-B8C7-3AE93556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4EA9-F6FD-44CB-B311-6CF625C5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1A47-1B69-41AA-8549-9981CB63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2B5E-C5B1-43A6-AC51-CA9776F4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ECF9-44E9-495F-874B-75AA984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D6BF-1B05-4648-8F04-D7BBCD88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3CD-FD85-4E8E-94C3-DA876FC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69DC-87B6-4E29-A309-F0FD26D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574C-0093-43ED-9F73-EE1ADF6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8458-412A-4C47-A14E-FB101203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E134-2962-43AC-A5A2-4BC82A9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649F-245D-4C6C-93C5-396113FB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7B83-3756-49D3-944F-3DD123AA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4D72-449E-4A76-837F-A812D81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5A34-1AF6-4E1C-8EA2-B18DE0C4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0BD6-6ED7-435C-9CF5-A36A00A6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8F0F-8D78-44CB-9717-6C9B8DC3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56E-3BD0-4EFC-BD48-3C222DE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BC52C-B975-47CD-BD92-F8321DA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707E-DF5C-48EC-8CCC-500E4A06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811C-F69A-497D-8E20-84935E2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97AD-124D-4A80-96D5-D95485AF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1ADB-19AB-4C97-9313-AE0EE13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E0A3-7053-475B-9A3F-50E9BCAC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C9AF-D489-45E5-A7D8-FFD913A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CAB0C-9899-47F8-8165-1E0E1DEE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8145-05F0-49C7-9172-1B2033E5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24FE-940D-4DE3-A094-5C59B88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0E8-D92B-415D-A900-25E55CC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02D3-B0A0-49D7-87E6-D594AEBF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4704-2CE5-4807-9E6C-682702C2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2C11-91C5-4D66-93E4-CF3FF1F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A6C3-A578-4A17-915F-333C063F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669E-7878-4BDA-A7E8-7C6E0C25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F5D6-7C0B-4B69-A06B-5B6FF4A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6AA6-0881-49F6-B9C0-0E1D1C6F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35A1E-7C1E-4D05-A9B2-0B7878C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A229C-5C97-46A9-A206-1AA0036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A6A6-0DFF-4DD6-8D80-DC583E56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776-53C1-4444-9D92-8F1AD9F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1CBB-C3DC-4B81-AE9F-11554417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C87F-3C16-46A6-AE0B-7FB1743F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D9F57-6E3D-4E3C-9D0D-C415B8ED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A7A22-2CB7-4448-A7E1-DB5FCE79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F6095-211E-47BF-91A1-92D78B45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9288-5154-49A9-9E7B-2780805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E7D6-6338-4ED8-87E5-BDA1C3BC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E9D0-4F33-4B61-B1E5-4D1F13A2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004F4-650A-4D86-A4BB-99C940AF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E597D-D35C-4C7A-9875-D4EE469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44C-09E5-4C5F-955A-444DD10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B8D93-69A5-4450-AE5B-E414436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2ACD8-4A78-4EF9-A5EA-B287E10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17BB-DEED-4D3D-8CF3-DE7C8CC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AFE6A-68AC-4D2E-90F4-5222BB7A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A0EB-F034-40F5-B12C-31C31C67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2F413-3895-4B40-866A-7C9EE1F8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0D30-778A-43EC-833D-649991C9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304BC-4A70-48BB-A5BD-721CE77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A5AB-9DC3-400B-B110-0462BAB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A698-2AE8-49A2-AD2C-DF405D17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765-1B59-4F5A-A0BE-8C29036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80A01-CBDC-4C44-B615-8B8DEFE7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6EED-D008-4A2B-9BFE-61C4ADF4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F1676-3C31-4810-94ED-A33BF80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B3183-13A4-40D6-B257-18E5AAF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22D2-2764-49C8-9456-1EFD1F8E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1E93D-FB8C-4BCA-9B28-D87E18A7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FCF1-02D1-4435-86C1-818401E3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3826F-8A27-4F2A-A7A4-FC4B0B9E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7EADC-FFC8-4688-B8F3-EAB18F30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8B82F-58A4-4F8C-98CC-B04A242E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C1A6-B3D0-4A28-A5B3-EDBCE9DF11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7560-F87D-4582-9906-E4BD27D6DB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49B-BD22-498B-ADE1-E696CF2E5E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A81-61C4-4E34-AA0D-7A8293B03E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AD31-5192-4ADC-A49C-A4F136A7DE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5EA0-1A75-4E2E-BF22-475F3FA6E0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934-3E51-4EC2-9133-EF595C135F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4A4-95F3-4D10-B26C-63385294B0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5AFE-E4D0-4A8C-9F76-CB99C14589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0AC-8884-4C07-9A54-06FA8E15D5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A9A3-DEC5-4C63-A19E-413F755D71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4C01-C83B-4923-8CBB-718B06EE36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9 Na tvoju h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d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tvár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znova pocítim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ty ma miluješ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voju hľadieť tv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 dopraj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dobre viem, že v 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ám svojho šťastia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z lásky na kr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i za mňa život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chcem byť tvojím nave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 Spasiteľ a Krá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veky tvoj chce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ôj 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 K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voju hľadieť tv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ám vrúcne žel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áč vyplniť ho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uj moje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et nikdy nemôž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 vzácny pokoj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reto stále v 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m svoju skrýšu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ebe len, v 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cem svoju skrýšu m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 viere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 pohľad k nebe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odtiaľ prídeš svojich vzi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 k sebe, Pane,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túžim s tebou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om meste večných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tvoju lásku veleb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znova, zas a z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ba tam veleb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y znova, zas a z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et často sklame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riech zrak mi zakal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slnka lúče hrejiv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rak čierny zah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sám ma poteš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oc čiernu zaženieš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s blízkosť tvoju pocít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tvoju lásku tie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26:22Z</dcterms:modified>
  <cp:revision>23</cp:revision>
  <dc:subject/>
  <dc:title>Je veľký náš Pán, on slávy je Kráľ Nech do všetkých strán  spev vrúcnych znie chvál.</dc:title>
</cp:coreProperties>
</file>